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AAE-9378-4B55-953A-FD97A447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12F-4391-4328-BF88-5B69E314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119-A90B-480E-B70B-57201D41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C44-AC9B-43C5-A8B6-2E6C535E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9854-975A-44A5-8FB5-677DE340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40A3-C748-45DC-ABEC-0261C0E2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487F-AD6C-4CDA-9447-398F026A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B9A9-B473-4C52-BC15-99DF681A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94B5-68E0-455B-A8CA-A650CCE9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18E-3936-422D-96DA-FF83D45E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CFF1-8506-492C-B9B0-F216BC3D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59D-7856-4265-AAB9-D672FAFB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D52B-472C-4C71-81C1-3526408A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D582-2D0F-4437-9F14-4636C55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53DB-F5A2-482C-A0E3-48D164F6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65FA-9259-45E6-A2CE-1E4232B4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D4CB-5248-4036-8171-54B43655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7D1-66A2-4F00-93CE-EA78EE71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883-87D0-4CDF-8B6F-1E556F4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C8B-95A1-4584-A10F-0C6BEEBE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280-67B9-432C-B933-F81BEAE7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38A-0228-4E91-91F6-B066A3AA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5BE-AA04-46E0-9971-993DED02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50C-24AE-41A6-BFB4-5ADE299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84D3-C961-4CC9-96FF-E99E81B1AF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935A-D81B-4748-9C22-927963D9E7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e-government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2927520"/>
            <a:ext cx="45007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ederalismo informatico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innovamento delle istituzion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5661000"/>
            <a:ext cx="25927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Unicode MS"/>
              </a:rPr>
              <a:t>Realizzato 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Unicode MS"/>
              </a:rPr>
              <a:t>Baccino Giorg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L’e-government nelle Regioni e negli Enti locali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se di attuazion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1079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isultati ottenuti nella 1° fase (2001/200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progetti di e-gover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l quadro di riferi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Centri Regionali di Competenza (CR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inee di azione della 2° fase (2003/2005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o sviluppo dei servizi infrastrutturali locali (SP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ffusione territoriale dei servizi per cittadini ed impre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’inclusione dei comuni piccol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’avviamento di progetti per lo sviluppo della cittadinanza digitale (e-democra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 promozione dell’utilizzo dei nuovi servizi presso cittadini e impre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e-government in England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498840" cy="176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148360" y="3645000"/>
            <a:ext cx="280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1079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nefits of e-governmen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ven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etter accessibility of public servi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deralismo informatic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nnovamento delle istitu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-government, e-governance, e-democrac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L’accesso alle pratiche di e-government: un nuovo diritto di cittadinanz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Il federalismo elettronico: Comuni, Provincie e Regioni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Il ruolo del centro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Il finanziamento dell’e-governm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079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Linee Strategiche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erso il sistema nazionale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 e-governm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079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. Migliorare l’efficienza della P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novare i processi nella 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tuare il codice della PA digitale per realizzare e semplificare i procedimenti amministrati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mazione on-line per la qualificazione del personale della 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 Realizzare l’interoperabilità e la pien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cooperazione fra le amministrazion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3133440"/>
            <a:ext cx="76932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finire un modello cooperativo per la 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grare le banche dati nazional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grare i registri pubbli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. Migliorare la trasparenza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della spesa pubblic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tilizzare l’informatica al servizio della finanza pubbl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crescere l’uso della rete per l’acquisto di beni e serviz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4. Costruire la cittadinanza digit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alizzare l’e-democra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ndere semplice e sicuro l’accesso ai servizi in r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re le modalità dei pagamenti    on-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arantire qualità e accessibilità a portali nazionali e siti della 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 Un approccio sistematico per l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qualità e l’efficienza nella P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nitorare le iniziative della PA per misurarne l’efficie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struire la rete delle eccellenze e degli innovato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Favorire la competitività delle imprese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e la crescita dell’industria IC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ndere le Amministrazione promotrici dello svilup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stenere lo sviluppo di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7. Rendere l’Italia protagonista del processo</a:t>
            </a:r>
            <a:br>
              <a:rPr sz="3000"/>
            </a:b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    di innovazione amministrativa in Europa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afforzare la presenza italiana nello scenario internazio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tuare le strategie UE di Lisbo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0:22:03Z</dcterms:created>
  <dc:creator>STANDARD</dc:creator>
  <dc:description/>
  <dc:language>en-US</dc:language>
  <cp:lastModifiedBy>STANDARD</cp:lastModifiedBy>
  <dcterms:modified xsi:type="dcterms:W3CDTF">2007-06-24T12:40:09Z</dcterms:modified>
  <cp:revision>49</cp:revision>
  <dc:subject/>
  <dc:title>Diapositiva 1</dc:title>
</cp:coreProperties>
</file>